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1B7-C71A-4F9B-BD44-158B310F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004-8296-4148-A568-68311EB1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19C-C6DF-4BCA-A91F-D0FC25E0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29B-7F37-4C42-BA9A-2C4E8CBA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B2A-90BB-4632-BB26-C8EF38D1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1B2-E5AF-4D5E-8D5E-EBFA1AC8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542-5B76-45EA-A98F-2CA349D1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9B0-6557-41F8-A4FD-71CB380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DB8-7FAE-4C16-86E4-0EE14C79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CC0-9773-459A-AE95-81B51B6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333-67F6-46B9-9CF8-F615510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128-5FDB-43F6-A395-8EE01446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90F3-8263-4248-9785-346DF938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765000"/>
            <a:ext cx="4105080" cy="28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English Scholarship Ex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3357720"/>
            <a:ext cx="331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nglish Facilit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acher Professional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3280" y="836640"/>
            <a:ext cx="60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lose Reading of Unfamiliar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comparison of two written texts, one poetry, one prose, with an emphasis on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rafting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76360" y="692280"/>
            <a:ext cx="597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Section A  -  Tips for suc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guidelin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wider discussio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f the themes/ideas to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void listing technique and effect ; look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olisticall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t each 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ntroductor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para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Keep answer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cross both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47640" y="260280"/>
            <a:ext cx="63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Section B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sponse to Literature an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response to literature / language which you have studi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you choose short texts, it must involve at least tw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enre-based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o not repeat material across Sections B and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595008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Shakespeare, novel, film, TV, poetry, short stories, theatre, aspects of language, journalism, non-fiction, online text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76360" y="549360"/>
            <a:ext cx="61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Section 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ploring Issues in Literature an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exploration of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issu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n literature / language studi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414972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***Thesis-drive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not text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907920"/>
            <a:ext cx="53276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ff3300"/>
                </a:solidFill>
                <a:latin typeface="Arial"/>
              </a:rPr>
              <a:t>Sections B and C</a:t>
            </a:r>
            <a:r>
              <a:rPr b="0" lang="en-NZ" sz="2200" spc="-1" strike="noStrike">
                <a:solidFill>
                  <a:srgbClr val="ff3300"/>
                </a:solidFill>
                <a:latin typeface="Arial"/>
              </a:rPr>
              <a:t>  -  </a:t>
            </a:r>
            <a:r>
              <a:rPr b="1" lang="en-NZ" sz="2200" spc="-1" strike="noStrike">
                <a:solidFill>
                  <a:srgbClr val="ff3300"/>
                </a:solidFill>
                <a:latin typeface="Arial"/>
              </a:rPr>
              <a:t>Tips for Succes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on the questi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Sustain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your response to it throughou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Don’t skew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the ques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ALL parts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, including quot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Draw up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for discussi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tex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76360" y="836640"/>
            <a:ext cx="561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Revision</a:t>
            </a:r>
            <a:r>
              <a:rPr b="0" lang="en-NZ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ap the link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cross all your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emplars / model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to analyse and compare against your own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raming the thesi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n intro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ext choic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– knowledge and personal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03280" y="404640"/>
            <a:ext cx="65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Final adv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ore th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00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h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r ess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ress the chosen topic throug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especially in Section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quota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all questions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husiasm, personal engagement, critical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914400"/>
            <a:ext cx="64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Purpose of this sess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187280" y="1988640"/>
            <a:ext cx="7058160" cy="27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hat to expect</a:t>
            </a: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-  Tips and advice</a:t>
            </a: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-  What responses might look 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hat is the Scholarship ex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1773360"/>
            <a:ext cx="63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eta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qua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able students in each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udents must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 high-level critical thinking, abstraction and gener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, synthesise and apply knowledge, skills, understanding and ideas to complex situ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189000"/>
            <a:ext cx="676944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$$$$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awa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Premier Schola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at least three Scholarships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stand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evel: $10,000 each year for three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Outstanding Scholar Aw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a minimum of 3 Scholarships (at least 2 at 'Outstanding' level or more than 3 Scholarships with at least 1 at Outstanding level) - $5,000 each year for thre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op Subject Scho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ultiple awards)- the top performer in each subject : $2,000 each year for three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Scholarship Aw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three or more Scholarships subjects  - $2,000 each year for thre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Arial"/>
              </a:rPr>
              <a:t>Single Subject Award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- 1 or 2 Scholarships - A 'one-off' award of $500 per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32000" y="549360"/>
            <a:ext cx="6553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How the paper is mar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ant checks within the marking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formance Descrip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essay is out of 8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our record of Scholarship results will sh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PD which best fitted your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The ‘cut off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47628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utstanding Performan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 Performance Descript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student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 extensive knowledge of texts and methods used in crafting them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 critically with mature ideas and independent ref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cep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ed critical respon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ility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nthes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nowledge, understanding and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32000" y="549360"/>
            <a:ext cx="597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cholarshi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 Performance Descript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udent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 extensive knowledge of texts and methods used in crafting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 critically with mature ideas and independent ref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her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bstantia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1125360"/>
            <a:ext cx="648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formance Descripto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udent wi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e knowledge of texts and methods used in crafting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d critically with mature ideas and independent ref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her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anti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g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76360" y="62064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336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3300"/>
                </a:solidFill>
                <a:latin typeface="Arial"/>
              </a:rPr>
              <a:t>Demanding text and question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-   It is not necessarily the complexity of the text but how students respond that makes it dema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206064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3300"/>
                </a:solidFill>
                <a:latin typeface="Arial"/>
              </a:rPr>
              <a:t>Respond criticall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… initiate an alternative reading or application of theory; take a fresh approach to accepted interpretations; challenge the reader’s understandings; apply or deconstruct theoretical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414972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3300"/>
                </a:solidFill>
                <a:latin typeface="Arial"/>
              </a:rPr>
              <a:t>Knowledge of method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used in crafting … such as structure, style, layout, delivery techniques, figurative language, editing, method of narration, rhetorical devices, sound effects, dramatic techniques, characterisation, costume and scrip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3:34:42Z</dcterms:created>
  <dc:creator>Victoria University of Wellington</dc:creator>
  <dc:description/>
  <dc:language>en-US</dc:language>
  <cp:lastModifiedBy>karen melhuish</cp:lastModifiedBy>
  <dcterms:modified xsi:type="dcterms:W3CDTF">2007-12-10T22:21:08Z</dcterms:modified>
  <cp:revision>18</cp:revision>
  <dc:subject/>
  <dc:title>You can use multiple text boxes, and insert pictures. It’s best to use a sans serif font. We’ve used Trade Gothic but Ocean Sans, Helvetica or Arial are other good options.</dc:title>
</cp:coreProperties>
</file>